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breez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7BD-B9F2-4C0F-B593-4C2BF4DB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743-46EC-4662-A3BF-9FE593F6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C29-D479-4062-A7FD-D3472603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E52-3C9A-43B1-8539-2556CB6C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11E0-9F20-4B78-BCD1-1252DF3B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B6FF-525F-4EEF-96BC-7147DA86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5438-5C23-4EE0-BE66-BBC93E73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882C-AA57-4794-9B10-4CE0FB9E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6663-E604-46D4-BAA2-17EAE7FF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900C-5BD3-41BC-83B8-10F52B4E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7E4D-5D93-4185-81E5-FF44875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121-0492-4C25-8481-0A545097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6B03-EBED-46ED-90A3-39D500A9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11EB-4C52-40D8-AEBE-EE45692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C541-49B5-4D5F-BE03-360B57B5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AF5B-9371-447E-B971-E090087A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B3CD-A53C-46B7-A010-8CB4110D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A08-F27C-4570-9632-610E55C4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2F8-F3BF-4EAF-A117-5187CCCC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78A-F09B-436D-8426-24571A54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A39-E980-4CD0-9E7C-61DD2E8D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D8C-241B-40D4-A3FF-E6A8117F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811-2DD7-4BC7-8D82-C420D58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6A3-0D19-4E43-81D2-6CC0F57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FA7E-4F04-429C-BE0B-A73740E37B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7637-3EBB-4DA3-82AB-8582D7263E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oudy Old Style"/>
              </a:rPr>
              <a:t>The Heimlich Maneuv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By: Tribecca N. Tr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mb dir="vert"/>
    <p:sndAc>
      <p:stSnd>
        <p:snd r:embed="rId1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38280" y="20574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 licensed physician should be consulted for diagnosis and treatment of all medical con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66880" y="685800"/>
            <a:ext cx="6096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Important Notice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dissolve/>
    <p:sndAc>
      <p:stSnd>
        <p:snd r:embed="rId1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2209680"/>
            <a:ext cx="7696080" cy="301860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There’s never a warning before a person gets an object caught in their throat and starts ch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Fortunately, there are effective techniques to deal with this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vert"/>
    <p:sndAc>
      <p:stSnd>
        <p:snd r:embed="rId1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362320" y="3200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king is the body’s way of trying to remove a foreign 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95480" y="762120"/>
            <a:ext cx="5181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Choking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random/>
    <p:sndAc>
      <p:stSnd>
        <p:snd r:embed="rId1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743200" y="19807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Eating (especially eating and laughing at the same time, eating too fast, and failing to chew food well enough.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Alcohol and drug consumption (even a small amount affects awareness.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Trauma to the head and face (bleeding can cause chok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Small objects swallowed by children (beads, toys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95480" y="228600"/>
            <a:ext cx="5257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Causes of Choking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newsflash/>
    <p:sndAc>
      <p:stSnd>
        <p:snd r:embed="rId1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43828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Old Style"/>
              </a:rPr>
              <a:t>Without oxygen the brain can begin to die within 4 to 6 minu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Old Style"/>
              </a:rPr>
              <a:t>By learning the Heimlich Maneuver-a simple life-saving technique-you may literally save the life of a choking victi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0"/>
            <a:ext cx="5181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Lack of Oxygen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randomBar dir="horz"/>
    <p:sndAc>
      <p:stSnd>
        <p:snd r:embed="rId1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43828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The person is grabbing the throat with the hand (the universal sign for choking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You notice they are gagg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You hear a weak ineffective cough, noisy breathing, or high-pitched soun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The person is starting to look blu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362320" y="380880"/>
            <a:ext cx="6391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When Do I Use The Heimlich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circle/>
    <p:sndAc>
      <p:stSnd>
        <p:snd r:embed="rId1" name="breez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Heimlich Maneuver,CPR,First Aid,Senior Adult,Emergency Services and Rescue Occupation"/>
          <p:cNvPicPr/>
          <p:nvPr/>
        </p:nvPicPr>
        <p:blipFill>
          <a:blip r:embed="rId1"/>
          <a:stretch/>
        </p:blipFill>
        <p:spPr>
          <a:xfrm>
            <a:off x="0" y="2228760"/>
            <a:ext cx="3124080" cy="4629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-2394" t="2494" r="2696" b="2494"/>
          <a:stretch/>
        </p:blipFill>
        <p:spPr>
          <a:xfrm>
            <a:off x="6172200" y="396252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Unconscious Heimlich"/>
          <p:cNvPicPr/>
          <p:nvPr/>
        </p:nvPicPr>
        <p:blipFill>
          <a:blip r:embed="rId3"/>
          <a:srcRect l="14637" t="23397" r="16319" b="9897"/>
          <a:stretch/>
        </p:blipFill>
        <p:spPr>
          <a:xfrm>
            <a:off x="3124080" y="4191120"/>
            <a:ext cx="312444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05740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t lifts the diaphragm and forces enough air from the lungs to remove the obstruc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43200" y="45720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Heimlich Manuver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1000">
    <p:split dir="in" orient="horz"/>
    <p:sndAc>
      <p:stSnd>
        <p:snd r:embed="rId4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743200" y="38088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How To Do The Heimlich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  <p:pic>
        <p:nvPicPr>
          <p:cNvPr id="103" name="" descr="Heimlich Maneuver on Infant"/>
          <p:cNvPicPr/>
          <p:nvPr/>
        </p:nvPicPr>
        <p:blipFill>
          <a:blip r:embed="rId1"/>
          <a:srcRect l="2375" t="3339" r="2636" b="0"/>
          <a:stretch/>
        </p:blipFill>
        <p:spPr>
          <a:xfrm>
            <a:off x="2133720" y="259092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6232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Stand behind the choking person and wrap your arm around his or her wai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Place thumb side of the fist against middle of person’s abdomen just above the navel and well below the rib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Press your fist into the person’s abdomen with quick, upward thrus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Repeat abdominal thrusts until the object is coughed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heel spokes="8"/>
    <p:sndAc>
      <p:stSnd>
        <p:snd r:embed="rId2" name="breez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3828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Following the expulsion of the object, keep the victim still and get medical help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Complications can arise from the incident or from the measures that were ta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14600" y="45720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lways Remember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strips dir="ru"/>
    <p:sndAc>
      <p:stSnd>
        <p:snd r:embed="rId1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8:26Z</dcterms:created>
  <dc:creator>809277</dc:creator>
  <dc:description/>
  <dc:language>en-US</dc:language>
  <cp:lastModifiedBy>WAYNE GUICE</cp:lastModifiedBy>
  <dcterms:modified xsi:type="dcterms:W3CDTF">2008-11-10T02:38:36Z</dcterms:modified>
  <cp:revision>5</cp:revision>
  <dc:subject/>
  <dc:title>The Heimlich Maneuver </dc:title>
</cp:coreProperties>
</file>